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4FC66-4719-4F1D-A571-02FB17A3192A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26B34-2A09-4F8B-B89B-055B88C3F83F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3B7C9-E3E1-41C6-9A02-B03B89234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3417B-4397-49FD-BEFC-140B99AFF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617DA-3E9A-49D1-8EA2-362C95AEC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95468-B746-4F92-9589-D35D98F14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7C2F7-61C4-460C-AB8D-20F8AA247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D2558-1ADD-4FBD-95F5-F0B036913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FAA1C-0760-4970-B4CE-2FAE20E2B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1C30D-345E-49E1-A812-16B3BC00A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71B71-2879-435B-887F-FB652B8B6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B2372-1E1F-4B9E-89A5-DCEE538B8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56776-EFDD-4035-A66C-294FE4D1E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7EB64-446A-4275-8BBC-D4224D4FA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CC613-CE14-41F5-AF87-8C3B346E454A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68 Conector recto"/>
          <p:cNvSpPr/>
          <p:nvPr/>
        </p:nvSpPr>
        <p:spPr>
          <a:xfrm>
            <a:off x="1571760" y="642960"/>
            <a:ext cx="2857320" cy="221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9" name="62 Forma"/>
          <p:cNvCxnSpPr/>
          <p:nvPr/>
        </p:nvCxnSpPr>
        <p:spPr>
          <a:xfrm flipH="1" rot="16200000">
            <a:off x="5391000" y="3609360"/>
            <a:ext cx="934200" cy="10008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0" name="56 Conector recto de flecha"/>
          <p:cNvCxnSpPr/>
          <p:nvPr/>
        </p:nvCxnSpPr>
        <p:spPr>
          <a:xfrm flipH="1">
            <a:off x="3641400" y="3357720"/>
            <a:ext cx="2160" cy="2000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1" name="50 Forma"/>
          <p:cNvCxnSpPr/>
          <p:nvPr/>
        </p:nvCxnSpPr>
        <p:spPr>
          <a:xfrm>
            <a:off x="5535360" y="658800"/>
            <a:ext cx="2037240" cy="9136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2" name="48 Conector recto de flecha"/>
          <p:cNvCxnSpPr/>
          <p:nvPr/>
        </p:nvCxnSpPr>
        <p:spPr>
          <a:xfrm>
            <a:off x="1714680" y="642600"/>
            <a:ext cx="2286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3" name="46 Conector recto de flecha"/>
          <p:cNvCxnSpPr/>
          <p:nvPr/>
        </p:nvCxnSpPr>
        <p:spPr>
          <a:xfrm flipH="1">
            <a:off x="1141200" y="642600"/>
            <a:ext cx="2160" cy="278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4" name="Text Box 45"/>
          <p:cNvSpPr/>
          <p:nvPr/>
        </p:nvSpPr>
        <p:spPr>
          <a:xfrm>
            <a:off x="228600" y="6224760"/>
            <a:ext cx="1857240" cy="52020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Organizador gráfico 2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63"/>
          <p:cNvSpPr/>
          <p:nvPr/>
        </p:nvSpPr>
        <p:spPr>
          <a:xfrm>
            <a:off x="214200" y="357120"/>
            <a:ext cx="1857600" cy="52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Construir u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gobierno mundi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98"/>
          <p:cNvSpPr/>
          <p:nvPr/>
        </p:nvSpPr>
        <p:spPr>
          <a:xfrm>
            <a:off x="2643120" y="500040"/>
            <a:ext cx="857160" cy="231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porqu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91"/>
          <p:cNvSpPr/>
          <p:nvPr/>
        </p:nvSpPr>
        <p:spPr>
          <a:xfrm>
            <a:off x="4114800" y="457200"/>
            <a:ext cx="1752480" cy="45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los gobiernos de los Estados naciona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91"/>
          <p:cNvSpPr/>
          <p:nvPr/>
        </p:nvSpPr>
        <p:spPr>
          <a:xfrm>
            <a:off x="357120" y="1798560"/>
            <a:ext cx="1571760" cy="641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la creación 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organism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supranaciona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91"/>
          <p:cNvSpPr/>
          <p:nvPr/>
        </p:nvSpPr>
        <p:spPr>
          <a:xfrm>
            <a:off x="142920" y="3441600"/>
            <a:ext cx="2295360" cy="1736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Las Naciones Unidas (ONU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El Fondo Monetar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Internacional (FM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El Banco Mundial (B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La Organización Mundial 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Comercio (OM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El Foro Económico Mund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El G-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La Corte Penal Internacio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91"/>
          <p:cNvSpPr/>
          <p:nvPr/>
        </p:nvSpPr>
        <p:spPr>
          <a:xfrm>
            <a:off x="6248520" y="1571760"/>
            <a:ext cx="2752560" cy="1006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dar solución a los proble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ambientales, de migraciones, l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crisis humanitarias, el subdesarrollo o el respeto a los Derechos Human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que afectan globalmente al plane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91"/>
          <p:cNvSpPr/>
          <p:nvPr/>
        </p:nvSpPr>
        <p:spPr>
          <a:xfrm>
            <a:off x="2857680" y="3181320"/>
            <a:ext cx="1571400" cy="641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la construcción 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una sociedad civ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glob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91"/>
          <p:cNvSpPr/>
          <p:nvPr/>
        </p:nvSpPr>
        <p:spPr>
          <a:xfrm>
            <a:off x="4572000" y="3181320"/>
            <a:ext cx="1571760" cy="45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consolidar un tip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de gobierno glob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91"/>
          <p:cNvSpPr/>
          <p:nvPr/>
        </p:nvSpPr>
        <p:spPr>
          <a:xfrm>
            <a:off x="2714760" y="5396040"/>
            <a:ext cx="1928520" cy="45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las organizaciones 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gubernamentales (ON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91"/>
          <p:cNvSpPr/>
          <p:nvPr/>
        </p:nvSpPr>
        <p:spPr>
          <a:xfrm>
            <a:off x="6357960" y="4253040"/>
            <a:ext cx="232884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Imperio Glob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Federación mundial de Estado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Democracia cosmopoli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98"/>
          <p:cNvSpPr/>
          <p:nvPr/>
        </p:nvSpPr>
        <p:spPr>
          <a:xfrm>
            <a:off x="7072200" y="500040"/>
            <a:ext cx="857520" cy="505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no tiene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capacidad par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98"/>
          <p:cNvSpPr/>
          <p:nvPr/>
        </p:nvSpPr>
        <p:spPr>
          <a:xfrm>
            <a:off x="642960" y="1214280"/>
            <a:ext cx="1000080" cy="231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un primer pas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98"/>
          <p:cNvSpPr/>
          <p:nvPr/>
        </p:nvSpPr>
        <p:spPr>
          <a:xfrm>
            <a:off x="714240" y="2770200"/>
            <a:ext cx="857520" cy="231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com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98"/>
          <p:cNvSpPr/>
          <p:nvPr/>
        </p:nvSpPr>
        <p:spPr>
          <a:xfrm>
            <a:off x="2928960" y="2000160"/>
            <a:ext cx="857160" cy="231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sus ret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98"/>
          <p:cNvSpPr/>
          <p:nvPr/>
        </p:nvSpPr>
        <p:spPr>
          <a:xfrm>
            <a:off x="2971800" y="4191120"/>
            <a:ext cx="129528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fortalecid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con l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conforma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d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98"/>
          <p:cNvSpPr/>
          <p:nvPr/>
        </p:nvSpPr>
        <p:spPr>
          <a:xfrm>
            <a:off x="5072040" y="4286160"/>
            <a:ext cx="571680" cy="505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qu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pued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s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1" name="52 Forma"/>
          <p:cNvCxnSpPr/>
          <p:nvPr/>
        </p:nvCxnSpPr>
        <p:spPr>
          <a:xfrm flipH="1" flipV="1" rot="5400000">
            <a:off x="4498560" y="2324160"/>
            <a:ext cx="2160" cy="1715400"/>
          </a:xfrm>
          <a:prstGeom prst="bentConnector3">
            <a:avLst>
              <a:gd name="adj1" fmla="val 18560000"/>
            </a:avLst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pic>
        <p:nvPicPr>
          <p:cNvPr id="72" name="73 Imagen" descr="marcacion11.jpg"/>
          <p:cNvPicPr/>
          <p:nvPr/>
        </p:nvPicPr>
        <p:blipFill>
          <a:blip r:embed="rId1"/>
          <a:stretch/>
        </p:blipFill>
        <p:spPr>
          <a:xfrm>
            <a:off x="7464600" y="6215040"/>
            <a:ext cx="1608120" cy="5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8T03:13:45Z</dcterms:created>
  <dc:creator>Jhenny Torres</dc:creator>
  <dc:description/>
  <dc:language>en-US</dc:language>
  <cp:lastModifiedBy>Ximena</cp:lastModifiedBy>
  <dcterms:modified xsi:type="dcterms:W3CDTF">2010-08-13T21:13:50Z</dcterms:modified>
  <cp:revision>193</cp:revision>
  <dc:subject/>
  <dc:title>Diapositiva 1</dc:title>
</cp:coreProperties>
</file>